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8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C596-B9DA-4179-A773-1949FEEEE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23BD-CE2D-4AE2-A679-C9850FF5BF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B4D0-54EB-460B-B6B8-6F71D2C74B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A90A-C625-41AD-9841-8A53F2F285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8371-7149-4692-BD9B-51CAC71A9F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0A33-F8A5-4E72-8C4C-B33D6C358D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F182-3083-4029-BBB6-22EC484480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DBB6-F994-4D8B-816E-95E4B52189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7BCE-0784-4EF9-8AA5-F25E91D5A1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36DF-E53D-4C12-BD64-A6E1DA1F5A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DAF0-895A-40DB-A204-23154262CD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E629-EC98-402A-B3A7-8AE6CE1EAC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F882-3E65-42E6-BA5D-1362256870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66B8-A7DD-4847-9E9C-0E937BD500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EB94-32F1-4D23-9EA7-36CF34F59D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E737-3F3B-4981-BAAD-4BE9257B5E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1203-630A-4AF5-9864-C5E0778EF3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88EF-269C-4116-A285-A20C9F66A0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DF04-D0EE-45BB-B4F7-9F69315FD1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723B-C25C-4F7D-805E-1241642D41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E4FD-86F9-4599-9E4A-7DF736F48C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FD23-F08E-48EC-B254-D8534244D1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D916-06C6-4537-B670-AC89D6D883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DDCC-6F9F-44EF-8870-E842E4B1C0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7450-5A19-44BF-82D2-2ADBF56E3F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750-D0AB-495F-BE05-77043F57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57E-9426-4D0E-A13F-0CB34E38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227-F37A-43F8-9766-0594EC9A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A53-5027-41BC-A585-F16EC47A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3F91-4D08-46F9-9565-599E1446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16A0-3EAC-48BD-9FE0-8A28AA55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3A5F-2D35-4637-B55C-6FC2C81E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A9A7-4D1E-4F66-8EEE-C1AC84B3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7096-0EB5-4323-8601-78788675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CDB6-D169-4FB5-85F9-9853382F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C473-D935-4110-9D24-DD761705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43A-6484-4665-9515-31B628D1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A1DE-98BC-4BED-96D1-55077C99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4E9D-18CA-423F-BFF0-D3E29C64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A2FB-CFDD-4A24-8BB4-85D0A0D4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1858-8731-4D32-94BB-56E93517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DD8D-606B-4012-979B-F6896301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155-613A-44C9-87CA-728F1108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88E-22A9-49A3-82FA-0D61E9F6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566-5793-40E1-850A-1814CA89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A2B-E05D-48CA-A93B-4F5B4603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5B3-0DFD-4E33-8359-84EB3706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457-9AA5-4464-91C1-BBA604D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149-0568-4738-A197-22CC2110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7A46-1DE2-4A64-AD7C-A91605A448D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076A-D61A-4EA8-B136-CCFCCB3E50B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Lik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an infinitiv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unconjugated form of the verb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ends in –ar/-er/-ir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Bail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Cant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Com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Escribi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Le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Nad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Patin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Trabaj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Corr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you want to say “I like to read”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Diagram 7" descr=""/>
          <p:cNvPicPr/>
          <p:nvPr/>
        </p:nvPicPr>
        <p:blipFill>
          <a:blip r:embed="rId2"/>
          <a:stretch/>
        </p:blipFill>
        <p:spPr>
          <a:xfrm>
            <a:off x="1511280" y="1390680"/>
            <a:ext cx="61279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We like to run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boys like to eat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Maria likes to skate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os gusta correr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es gusta comer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e gusta patinar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could have also written them like thi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nosotros nos gusta corr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los chicos les gusta come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Maria le gusta patin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Me gusta …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2"/>
          <a:stretch/>
        </p:blipFill>
        <p:spPr>
          <a:xfrm>
            <a:off x="1030320" y="1547640"/>
            <a:ext cx="70596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í, me gusta bailar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Yes, I like to dance.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Book Antiqua"/>
              </a:rPr>
              <a:t>*nota: remember, “no” also means “don’t”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o, </a:t>
            </a: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no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me gusta bailar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No, I </a:t>
            </a: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don’t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like to dance.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Rectangle 4" descr=""/>
          <p:cNvPicPr/>
          <p:nvPr/>
        </p:nvPicPr>
        <p:blipFill>
          <a:blip r:embed="rId3"/>
          <a:stretch/>
        </p:blipFill>
        <p:spPr>
          <a:xfrm>
            <a:off x="1657440" y="1109520"/>
            <a:ext cx="59626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ll your partner that you like to do the following thin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rystal\AppData\Local\Microsoft\Windows\Temporary Internet Files\Content.IE5\R6S1M2ZW\MCj04281110000[1].wmf"/>
          <p:cNvPicPr/>
          <p:nvPr/>
        </p:nvPicPr>
        <p:blipFill>
          <a:blip r:embed="rId2"/>
          <a:stretch/>
        </p:blipFill>
        <p:spPr>
          <a:xfrm>
            <a:off x="2286000" y="1905120"/>
            <a:ext cx="4724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Picture 3" descr="C:\Users\Crystal\AppData\Local\Microsoft\Windows\Temporary Internet Files\Content.IE5\7P9AKK8P\MPj04067120000[1].jpg"/>
          <p:cNvPicPr/>
          <p:nvPr/>
        </p:nvPicPr>
        <p:blipFill>
          <a:blip r:embed="rId2"/>
          <a:stretch/>
        </p:blipFill>
        <p:spPr>
          <a:xfrm>
            <a:off x="1981080" y="1752480"/>
            <a:ext cx="579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Use </a:t>
            </a:r>
            <a:r>
              <a:rPr b="0" lang="en-US" sz="3600" spc="-1" strike="noStrike">
                <a:solidFill>
                  <a:srgbClr val="0d0d0d"/>
                </a:solidFill>
                <a:latin typeface="Book Antiqua"/>
              </a:rPr>
              <a:t>“gustar”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o talk about the things you like to do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like to re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like to ru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2" descr="C:\Users\Crystal\AppData\Local\Microsoft\Windows\Temporary Internet Files\Content.IE5\R6S1M2ZW\MPj04395760000[1].jpg"/>
          <p:cNvPicPr/>
          <p:nvPr/>
        </p:nvPicPr>
        <p:blipFill>
          <a:blip r:embed="rId2"/>
          <a:stretch/>
        </p:blipFill>
        <p:spPr>
          <a:xfrm>
            <a:off x="1143000" y="1752480"/>
            <a:ext cx="64008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ll your partner that you don’t like to do the following activiti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2" descr="C:\Users\Crystal\AppData\Local\Microsoft\Windows\Temporary Internet Files\Content.IE5\GJ9MCPXH\MPj04385230000[1].jpg"/>
          <p:cNvPicPr/>
          <p:nvPr/>
        </p:nvPicPr>
        <p:blipFill>
          <a:blip r:embed="rId2"/>
          <a:stretch/>
        </p:blipFill>
        <p:spPr>
          <a:xfrm>
            <a:off x="1371600" y="1905120"/>
            <a:ext cx="64008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9" name="Picture 2" descr="C:\Users\Crystal\AppData\Local\Microsoft\Windows\Temporary Internet Files\Content.IE5\R6S1M2ZW\MPj04384850000[1].jpg"/>
          <p:cNvPicPr/>
          <p:nvPr/>
        </p:nvPicPr>
        <p:blipFill>
          <a:blip r:embed="rId2"/>
          <a:stretch/>
        </p:blipFill>
        <p:spPr>
          <a:xfrm>
            <a:off x="2057400" y="1828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ll in the blan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Carlos _____ gusta corre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usana y Juan ______ gusta cant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mi _____ gusta patina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nosotros _____ gusta baila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ustar” is different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 don’t use gustar with the usual subject pronoun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4" descr=""/>
          <p:cNvPicPr/>
          <p:nvPr/>
        </p:nvPicPr>
        <p:blipFill>
          <a:blip r:embed="rId2"/>
          <a:stretch/>
        </p:blipFill>
        <p:spPr>
          <a:xfrm>
            <a:off x="371520" y="1596960"/>
            <a:ext cx="83217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conjugation chart.jpg"/>
          <p:cNvPicPr/>
          <p:nvPr/>
        </p:nvPicPr>
        <p:blipFill>
          <a:blip r:embed="rId2"/>
          <a:stretch/>
        </p:blipFill>
        <p:spPr>
          <a:xfrm>
            <a:off x="1143000" y="1828800"/>
            <a:ext cx="6858000" cy="428616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4" descr=""/>
          <p:cNvPicPr/>
          <p:nvPr/>
        </p:nvPicPr>
        <p:blipFill>
          <a:blip r:embed="rId3"/>
          <a:stretch/>
        </p:blipFill>
        <p:spPr>
          <a:xfrm>
            <a:off x="1652760" y="1689120"/>
            <a:ext cx="194940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5" descr=""/>
          <p:cNvPicPr/>
          <p:nvPr/>
        </p:nvPicPr>
        <p:blipFill>
          <a:blip r:embed="rId4"/>
          <a:stretch/>
        </p:blipFill>
        <p:spPr>
          <a:xfrm>
            <a:off x="1884240" y="3060720"/>
            <a:ext cx="157176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6" descr=""/>
          <p:cNvPicPr/>
          <p:nvPr/>
        </p:nvPicPr>
        <p:blipFill>
          <a:blip r:embed="rId5"/>
          <a:stretch/>
        </p:blipFill>
        <p:spPr>
          <a:xfrm>
            <a:off x="1805040" y="4352760"/>
            <a:ext cx="1571400" cy="120024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7" descr=""/>
          <p:cNvPicPr/>
          <p:nvPr/>
        </p:nvPicPr>
        <p:blipFill>
          <a:blip r:embed="rId6"/>
          <a:stretch/>
        </p:blipFill>
        <p:spPr>
          <a:xfrm>
            <a:off x="4627440" y="1762200"/>
            <a:ext cx="2102040" cy="120024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8" descr=""/>
          <p:cNvPicPr/>
          <p:nvPr/>
        </p:nvPicPr>
        <p:blipFill>
          <a:blip r:embed="rId7"/>
          <a:stretch/>
        </p:blipFill>
        <p:spPr>
          <a:xfrm>
            <a:off x="4780080" y="3060720"/>
            <a:ext cx="1681200" cy="120024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9" descr=""/>
          <p:cNvPicPr/>
          <p:nvPr/>
        </p:nvPicPr>
        <p:blipFill>
          <a:blip r:embed="rId8"/>
          <a:stretch/>
        </p:blipFill>
        <p:spPr>
          <a:xfrm>
            <a:off x="4700520" y="4352760"/>
            <a:ext cx="18763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Me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e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e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os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Os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es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I lik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You lik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e/she lik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We lik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Ya’ll lik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y lik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Left-Right Arrow 7"/>
          <p:cNvSpPr/>
          <p:nvPr/>
        </p:nvSpPr>
        <p:spPr>
          <a:xfrm>
            <a:off x="3276720" y="16002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eft-Right Arrow 8"/>
          <p:cNvSpPr/>
          <p:nvPr/>
        </p:nvSpPr>
        <p:spPr>
          <a:xfrm>
            <a:off x="3276720" y="22860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eft-Right Arrow 9"/>
          <p:cNvSpPr/>
          <p:nvPr/>
        </p:nvSpPr>
        <p:spPr>
          <a:xfrm>
            <a:off x="3276720" y="29718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eft-Right Arrow 10"/>
          <p:cNvSpPr/>
          <p:nvPr/>
        </p:nvSpPr>
        <p:spPr>
          <a:xfrm>
            <a:off x="3276720" y="36576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eft-Right Arrow 11"/>
          <p:cNvSpPr/>
          <p:nvPr/>
        </p:nvSpPr>
        <p:spPr>
          <a:xfrm>
            <a:off x="3352680" y="43434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eft-Right Arrow 12"/>
          <p:cNvSpPr/>
          <p:nvPr/>
        </p:nvSpPr>
        <p:spPr>
          <a:xfrm>
            <a:off x="3352680" y="495288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cause you are using “gustar” pronouns, you don’t necessarily have to put a subjec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you want to put a subject, you have to write it differentl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conjugation chart.jpg"/>
          <p:cNvPicPr/>
          <p:nvPr/>
        </p:nvPicPr>
        <p:blipFill>
          <a:blip r:embed="rId2"/>
          <a:stretch/>
        </p:blipFill>
        <p:spPr>
          <a:xfrm>
            <a:off x="1066680" y="1752480"/>
            <a:ext cx="6858000" cy="4286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1981080" y="320040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translating “gustar”, it does not get conjugated like most verb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only form that we will use for Spanish I i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Rectangle 5" descr=""/>
          <p:cNvPicPr/>
          <p:nvPr/>
        </p:nvPicPr>
        <p:blipFill>
          <a:blip r:embed="rId2"/>
          <a:stretch/>
        </p:blipFill>
        <p:spPr>
          <a:xfrm>
            <a:off x="2938320" y="3243240"/>
            <a:ext cx="25480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1:56:03Z</dcterms:created>
  <dc:creator>Crystal</dc:creator>
  <dc:description/>
  <dc:language>en-US</dc:language>
  <cp:lastModifiedBy>ctaylor-simon</cp:lastModifiedBy>
  <dcterms:modified xsi:type="dcterms:W3CDTF">2009-03-05T19:59:03Z</dcterms:modified>
  <cp:revision>32</cp:revision>
  <dc:subject/>
  <dc:title>Gustar</dc:title>
</cp:coreProperties>
</file>